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4592D-E09D-4102-9DAF-A4168417CC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E79CE-94B2-4E2E-9266-F1C8571D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0C564-D0D1-463B-8313-1C1DD403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EDC42-6195-450B-A3E4-7F2CE86A2C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FE04A-DBE2-46B4-A884-9BC0B302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8698D-C26D-4C31-9AF1-DDDB7738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ED7DC-2084-4CF5-8071-45DCAB85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C77E1-31D1-4C5F-B90B-B49569194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AB511-F991-4041-818B-A61DD2E0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5E6AC-94EC-4FE3-9844-69A92E9F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17A80-3C34-46D4-859F-2E0844F7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FC5A7-D0CE-4A37-A1D3-3D152B8B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B4AD-38E6-48DA-B7CF-BE91F25030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颅内肿瘤，拟行开颅病灶切除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围术期护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意外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检查及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及输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、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相关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及家属康复训练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合理摄入均衡饮食，注重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未明。可能与遗传、外伤、理化因素和生物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病多较缓慢，病程可自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至数年不等。部分病例可呈急性或亚急性发病，由于肿瘤的原发部位、组织生物学特性的不同，不同肿瘤的临床表现各异，但以颅内压增高、神经功能定位症状为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为主，辅以放疗、化疗及免疫、基因、中医等综合治疗。降低颅内压以缓解症状，争取治疗时间。切除肿瘤是降低颅内压、解除对脑神经压迫的最直接、最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采取斜坡位，注意休息，营养支持，保持呼吸道通畅，病情观察，颅内压增高的护理，防止发生意外，做好心理护理和各项术前准备。术后注意观察患者的生命体征、意识状态、瞳孔及肢体活动状况，采取适当体位，补充营养和输液，保持呼吸道通畅，减轻疼痛，观察伤口及引流管情况，加强生活护理，预防和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颅内肿瘤患者的病情观察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颅内肿瘤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颅内肿瘤患者术后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内肿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头痛、头晕、右半身麻木无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志清楚，眼底视盘模糊不清，视盘水肿。有面部感觉减退，右侧肢体不全瘫痪，右侧病理反射阳性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破坏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颅内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星形细胞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膜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听神经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咽管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及靶腺功能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与呕吐、食欲下降、放疗、化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 与肿瘤压迫、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卫生、如厕）自理缺陷 与手术后长期卧床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颅内压增高、脑疝、颅内出血、中枢性高热、感染、脑脊液漏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9:53Z</dcterms:modified>
  <cp:revision>87</cp:revision>
  <dc:subject/>
  <dc:title>内科护理学</dc:title>
</cp:coreProperties>
</file>